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525B-4DEB-4813-A229-CABB2292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258-097C-4F91-8B32-B32D52E7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0596-79B9-4196-BB17-8A63CABE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0BE-F97E-4915-8D67-EE96E687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4839-95C1-4272-9C7D-CD1824A9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0DD4-038C-471F-93BE-8674FF23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4EA-3471-4B0D-B01C-9F7E3DA9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6047-8062-45AF-8EE6-DC38CD4B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51D9-2347-489F-9786-5C81CE29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867A-6EAF-487E-B8BE-AAF9238A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B435-E7BC-44A0-AFEA-6F8A9663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4EC-1EC2-4985-ADF4-BBFCCC5D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A256-04CA-4124-8CF3-6D11B5E0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26AD-512E-4AC8-B72F-529B3BA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D893-4961-4173-9BA7-7092ECF3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7A66-A938-4BD1-9E44-4E47F12E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31E3-71A7-493D-9AC1-758AA77B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A90-CC2F-48AD-A822-A94021C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B63-280F-48AD-AE90-DAD708D2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8A2-F8FE-4E12-AC26-C4D2CB69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37C-A4F1-4307-8C73-BCEC27DE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C35-0956-452A-958F-DFFC5E6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F9E-727B-43DC-962D-A7D960F1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FC3-1E21-4351-8401-06640041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F91E-0A1B-4306-B451-CB49C6E5C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EF3E-4F56-4AE4-8A34-6CD233646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1496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Hufen i</a:t>
            </a:r>
            <a:r>
              <a:rPr b="0" lang="en-US" sz="3200" spc="-1" strike="noStrike" u="sng">
                <a:solidFill>
                  <a:srgbClr val="d9d9ff"/>
                </a:solidFill>
                <a:uFillTx/>
                <a:latin typeface="Comic Sans MS"/>
              </a:rPr>
              <a:t>â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1280" y="1196640"/>
            <a:ext cx="7920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e Amy, Bob, Carrie, a Dan yn sefyll mewn rhes i brynu hufen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â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fnyddiwch y brawddegau canlynol i benderfynu ym mha drefn maent yn sefyll</a:t>
            </a: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66320" y="3860640"/>
            <a:ext cx="5153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e Carrie rhwng Amy a Bob.</a:t>
            </a:r>
            <a:br>
              <a:rPr sz="2800"/>
            </a:b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e Dan nesa’ at Amy.</a:t>
            </a:r>
            <a:br>
              <a:rPr sz="2800"/>
            </a:b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Nid Bob sydd gynta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11970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7:56Z</dcterms:created>
  <dc:creator>Carwyn</dc:creator>
  <dc:description/>
  <dc:language>en-US</dc:language>
  <cp:lastModifiedBy>Carwyn</cp:lastModifiedBy>
  <dcterms:modified xsi:type="dcterms:W3CDTF">2008-12-04T20:23:13Z</dcterms:modified>
  <cp:revision>3</cp:revision>
  <dc:subject/>
  <dc:title>Hufen iâ</dc:title>
</cp:coreProperties>
</file>